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98A3-3C1B-4FA5-8F73-345DEBC2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2729-472A-4E07-8B52-9D2F395E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31B2-060B-4989-B56C-3DE13802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3BF1-C472-48C5-B50B-76686C4B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7C50-DE98-4C9D-866F-EFEFE1DC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11BF-0D97-4B01-A731-58041FB6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2929-29CD-4196-8CCC-45EF8205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DB35-AB32-49CC-A41C-A0253976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417C-D0AD-4B5D-ACC9-120D4282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6A2B-0D63-459B-8874-37599B4C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8150-1E69-4A38-BF04-993EFC5D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B01E-4E62-40A3-90A9-35C41BC7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905F-27A4-4004-AD39-A0B80B1B14C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993080" cy="836640"/>
          </a:xfrm>
          <a:prstGeom prst="rect">
            <a:avLst/>
          </a:prstGeom>
          <a:gradFill rotWithShape="0">
            <a:gsLst>
              <a:gs pos="0">
                <a:srgbClr val="026730"/>
              </a:gs>
              <a:gs pos="50000">
                <a:srgbClr val="05e169"/>
              </a:gs>
              <a:gs pos="100000">
                <a:srgbClr val="02673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BIOELE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280360" cy="5950080"/>
          </a:xfrm>
          <a:prstGeom prst="rect">
            <a:avLst/>
          </a:prstGeom>
          <a:solidFill>
            <a:srgbClr val="05e1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EMENTOS PRIM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EMENTOS SECUNDARIOS                       (Macroelemen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LIGOELEMENTOS                          (Microelemen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ECTROL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64000" y="907920"/>
            <a:ext cx="201636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O, C, H,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96000" y="2349360"/>
            <a:ext cx="2521080" cy="1441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,  P, S, M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4005360"/>
            <a:ext cx="331308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F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, F, Cu, I, 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Zn, Co, Mo, S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Cr y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0000" y="5634000"/>
            <a:ext cx="2304720" cy="1224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Na</a:t>
            </a:r>
            <a:r>
              <a:rPr b="0" lang="es-ES_tradnl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Cl</a:t>
            </a:r>
            <a:r>
              <a:rPr b="0" lang="es-ES_tradnl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, K</a:t>
            </a:r>
            <a:r>
              <a:rPr b="0" lang="es-ES_tradnl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IMINACION DE CLOR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Ñ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56000" y="3429000"/>
            <a:ext cx="1008000" cy="431640"/>
          </a:xfrm>
          <a:prstGeom prst="rightArrow">
            <a:avLst>
              <a:gd name="adj1" fmla="val 50000"/>
              <a:gd name="adj2" fmla="val 583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35002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ortante en diarreas sev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27280" y="4581360"/>
            <a:ext cx="936720" cy="432000"/>
          </a:xfrm>
          <a:prstGeom prst="rightArrow">
            <a:avLst>
              <a:gd name="adj1" fmla="val 50000"/>
              <a:gd name="adj2" fmla="val 54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443700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limas muy cálidos, deportistas, durante el ejerci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84360" y="2205000"/>
            <a:ext cx="1582920" cy="432000"/>
          </a:xfrm>
          <a:prstGeom prst="rightArrow">
            <a:avLst>
              <a:gd name="adj1" fmla="val 50000"/>
              <a:gd name="adj2" fmla="val 916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720" y="1989000"/>
            <a:ext cx="360036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INCIPAL VIA DE EXCRE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OTAS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2492280"/>
            <a:ext cx="403236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IQUIDO INTRA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9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628640"/>
            <a:ext cx="4033800" cy="132300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ADULTO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36 GRS. TO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5084640"/>
            <a:ext cx="3384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iq. Extracelular  2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3716280"/>
            <a:ext cx="4032360" cy="1584360"/>
          </a:xfrm>
          <a:prstGeom prst="ellipse">
            <a:avLst/>
          </a:prstGeom>
          <a:solidFill>
            <a:srgbClr val="2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OMBA Na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TP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500720" y="3716280"/>
            <a:ext cx="50292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4508640"/>
            <a:ext cx="718920" cy="64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5853240"/>
            <a:ext cx="33843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lasm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4-5,5 mEq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UNCIONES DE LOS IONES POTA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370044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 metabolismo celular (regul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ntenimiento de potencial de membranas en rep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gulación de la presión osmótica del líquido intrace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quilibrio hidroeléct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5805360"/>
            <a:ext cx="7921800" cy="947160"/>
          </a:xfrm>
          <a:prstGeom prst="rect">
            <a:avLst/>
          </a:prstGeom>
          <a:solidFill>
            <a:srgbClr val="f8e66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Arial"/>
              </a:rPr>
              <a:t>LA ABSORCION DE K</a:t>
            </a:r>
            <a:r>
              <a:rPr b="1" lang="es-ES_tradnl" sz="2800" spc="-1" strike="noStrike" baseline="30000">
                <a:solidFill>
                  <a:srgbClr val="3333ff"/>
                </a:solidFill>
                <a:latin typeface="Arial"/>
              </a:rPr>
              <a:t>+</a:t>
            </a:r>
            <a:r>
              <a:rPr b="1" lang="es-ES_tradnl" sz="2800" spc="-1" strike="noStrike">
                <a:solidFill>
                  <a:srgbClr val="3333ff"/>
                </a:solidFill>
                <a:latin typeface="Arial"/>
              </a:rPr>
              <a:t> SE REALIZA A NIVEL INTEST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UENTES NATURALES DE POTA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5256000" cy="125244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 LA MAYORIA DE LOS ALIMENTOS FRESCOS: &gt;&gt; BANANAS, VEGE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3789360"/>
            <a:ext cx="6624720" cy="520560"/>
          </a:xfrm>
          <a:prstGeom prst="rect">
            <a:avLst/>
          </a:prstGeom>
          <a:solidFill>
            <a:srgbClr val="2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gesta diaria recomendada: 5 grs.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797360"/>
            <a:ext cx="1800000" cy="1440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484360" y="4724280"/>
            <a:ext cx="1008000" cy="798840"/>
            <a:chOff x="2484360" y="4724280"/>
            <a:chExt cx="1008000" cy="798840"/>
          </a:xfrm>
        </p:grpSpPr>
        <p:sp>
          <p:nvSpPr>
            <p:cNvPr id="129" name=""/>
            <p:cNvSpPr/>
            <p:nvPr/>
          </p:nvSpPr>
          <p:spPr>
            <a:xfrm>
              <a:off x="2484360" y="4724280"/>
              <a:ext cx="431640" cy="792360"/>
            </a:xfrm>
            <a:prstGeom prst="upArrow">
              <a:avLst>
                <a:gd name="adj1" fmla="val 50000"/>
                <a:gd name="adj2" fmla="val 45892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44720" y="4941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484000" y="5656320"/>
            <a:ext cx="1368720" cy="798840"/>
            <a:chOff x="2484000" y="5656320"/>
            <a:chExt cx="1368720" cy="798840"/>
          </a:xfrm>
        </p:grpSpPr>
        <p:sp>
          <p:nvSpPr>
            <p:cNvPr id="132" name=""/>
            <p:cNvSpPr/>
            <p:nvPr/>
          </p:nvSpPr>
          <p:spPr>
            <a:xfrm rot="10800000">
              <a:off x="2484000" y="5656320"/>
              <a:ext cx="431640" cy="792000"/>
            </a:xfrm>
            <a:prstGeom prst="upArrow">
              <a:avLst>
                <a:gd name="adj1" fmla="val 50000"/>
                <a:gd name="adj2" fmla="val 45872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44720" y="587376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995640" y="4869000"/>
            <a:ext cx="4822920" cy="1381680"/>
          </a:xfrm>
          <a:prstGeom prst="rect">
            <a:avLst/>
          </a:prstGeom>
          <a:solidFill>
            <a:srgbClr val="fde7e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VIENEN ENFERMEDADES CARDIOVASC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VASODILATAC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56360" y="1484280"/>
            <a:ext cx="232560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964720" cy="92232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GULACION DE POTASIO POR CATECOLAMINAS  (A y 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2349360"/>
            <a:ext cx="3097440" cy="33847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CE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63640" y="4292640"/>
            <a:ext cx="1008000" cy="798840"/>
            <a:chOff x="1763640" y="4292640"/>
            <a:chExt cx="1008000" cy="798840"/>
          </a:xfrm>
        </p:grpSpPr>
        <p:sp>
          <p:nvSpPr>
            <p:cNvPr id="139" name=""/>
            <p:cNvSpPr/>
            <p:nvPr/>
          </p:nvSpPr>
          <p:spPr>
            <a:xfrm>
              <a:off x="1763640" y="4292640"/>
              <a:ext cx="431640" cy="792360"/>
            </a:xfrm>
            <a:prstGeom prst="upArrow">
              <a:avLst>
                <a:gd name="adj1" fmla="val 50000"/>
                <a:gd name="adj2" fmla="val 45892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24000" y="4510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 rot="10800000">
            <a:off x="3492360" y="1700280"/>
            <a:ext cx="216000" cy="792000"/>
          </a:xfrm>
          <a:prstGeom prst="upArrow">
            <a:avLst>
              <a:gd name="adj1" fmla="val 50000"/>
              <a:gd name="adj2" fmla="val 91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191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19640" y="2970360"/>
            <a:ext cx="2808360" cy="1373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eptores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-adrenérg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27640" y="2492280"/>
            <a:ext cx="576000" cy="863640"/>
          </a:xfrm>
          <a:prstGeom prst="irregularSeal2">
            <a:avLst/>
          </a:prstGeom>
          <a:solidFill>
            <a:srgbClr val="ec37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850920" y="3402000"/>
            <a:ext cx="1297080" cy="0"/>
          </a:xfrm>
          <a:prstGeom prst="line">
            <a:avLst/>
          </a:prstGeom>
          <a:ln w="475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00720" y="3475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35280" y="2781360"/>
            <a:ext cx="19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úscular y hep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19640" y="4554360"/>
            <a:ext cx="2808360" cy="1373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eptores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-adrenérg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27640" y="4076640"/>
            <a:ext cx="576000" cy="863640"/>
          </a:xfrm>
          <a:prstGeom prst="irregularSeal2">
            <a:avLst/>
          </a:prstGeom>
          <a:solidFill>
            <a:srgbClr val="ec37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850920" y="4986360"/>
            <a:ext cx="1297080" cy="0"/>
          </a:xfrm>
          <a:prstGeom prst="line">
            <a:avLst/>
          </a:prstGeom>
          <a:ln w="4752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00720" y="50594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GULACION DE POTASIO POR INSUL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87280" y="1700280"/>
            <a:ext cx="3097440" cy="3384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CE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63640" y="3573360"/>
            <a:ext cx="1008000" cy="798840"/>
            <a:chOff x="1763640" y="3573360"/>
            <a:chExt cx="1008000" cy="798840"/>
          </a:xfrm>
        </p:grpSpPr>
        <p:sp>
          <p:nvSpPr>
            <p:cNvPr id="155" name=""/>
            <p:cNvSpPr/>
            <p:nvPr/>
          </p:nvSpPr>
          <p:spPr>
            <a:xfrm>
              <a:off x="1763640" y="3573360"/>
              <a:ext cx="431640" cy="792360"/>
            </a:xfrm>
            <a:prstGeom prst="upArrow">
              <a:avLst>
                <a:gd name="adj1" fmla="val 50000"/>
                <a:gd name="adj2" fmla="val 45892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24000" y="379080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 rot="10800000">
            <a:off x="3924360" y="1125000"/>
            <a:ext cx="216000" cy="792360"/>
          </a:xfrm>
          <a:prstGeom prst="upArrow">
            <a:avLst>
              <a:gd name="adj1" fmla="val 50000"/>
              <a:gd name="adj2" fmla="val 91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0360" y="11984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64000" y="2900520"/>
            <a:ext cx="2737080" cy="581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88000" y="2349360"/>
            <a:ext cx="576000" cy="863640"/>
          </a:xfrm>
          <a:prstGeom prst="irregularSeal2">
            <a:avLst/>
          </a:prstGeom>
          <a:solidFill>
            <a:srgbClr val="ec37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850920" y="3332160"/>
            <a:ext cx="1297080" cy="0"/>
          </a:xfrm>
          <a:prstGeom prst="line">
            <a:avLst/>
          </a:prstGeom>
          <a:ln w="475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34052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00720" y="4654440"/>
            <a:ext cx="502920" cy="505080"/>
          </a:xfrm>
          <a:prstGeom prst="ellipse">
            <a:avLst/>
          </a:prstGeom>
          <a:solidFill>
            <a:srgbClr val="ec37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4149720"/>
            <a:ext cx="25923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a-K ATP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4797360"/>
            <a:ext cx="2808000" cy="947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transportador      Na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H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5280" y="2062080"/>
            <a:ext cx="19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úscular y hep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4005360"/>
            <a:ext cx="431640" cy="1944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126828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acio extra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6021360"/>
            <a:ext cx="71294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dosterona: Ingreso K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en hipercal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85068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AL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11640" y="3141720"/>
            <a:ext cx="403236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JIDO OSEO Y 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16360" y="5373720"/>
            <a:ext cx="4176720" cy="101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iq. Intracelular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lasm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5 mEq/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4000" y="5300640"/>
            <a:ext cx="4319280" cy="132300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ADULTO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250 GRS. TO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796000" y="1342080"/>
            <a:ext cx="2809440" cy="1331280"/>
            <a:chOff x="5796000" y="1342080"/>
            <a:chExt cx="2809440" cy="1331280"/>
          </a:xfrm>
        </p:grpSpPr>
        <p:pic>
          <p:nvPicPr>
            <p:cNvPr id="176" name="" descr=""/>
            <p:cNvPicPr/>
            <p:nvPr/>
          </p:nvPicPr>
          <p:blipFill>
            <a:blip r:embed="rId2"/>
            <a:srcRect l="70378" t="38198" r="23655" b="36340"/>
            <a:stretch/>
          </p:blipFill>
          <p:spPr>
            <a:xfrm rot="16200000">
              <a:off x="6575760" y="643680"/>
              <a:ext cx="1249560" cy="28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 rot="16200000">
              <a:off x="7113600" y="2211480"/>
              <a:ext cx="267120" cy="656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6200000">
              <a:off x="7206480" y="1146960"/>
              <a:ext cx="266400" cy="656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FUNCIONES DEL CAL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ineralización de huesos y d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gundo mensaje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tracción mu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xcitabilidad  nervi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agulación de la san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UENTES NATURALES DE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6191280" cy="86364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ECHE Y SUS DERIV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500280"/>
            <a:ext cx="8820000" cy="311544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ngesta diaria recomend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Lactant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350-550 mgrs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Niñ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(1-10 años): 800 mgrs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Adolescentes, embarazo y lactanci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1.200 mgrs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Adult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800 mgrs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877080" y="1773360"/>
            <a:ext cx="123840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BSORCION DE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900000" y="3281400"/>
            <a:ext cx="1344600" cy="1871640"/>
            <a:chOff x="900000" y="3281400"/>
            <a:chExt cx="1344600" cy="1871640"/>
          </a:xfrm>
        </p:grpSpPr>
        <p:sp>
          <p:nvSpPr>
            <p:cNvPr id="187" name=""/>
            <p:cNvSpPr/>
            <p:nvPr/>
          </p:nvSpPr>
          <p:spPr>
            <a:xfrm>
              <a:off x="900000" y="3281400"/>
              <a:ext cx="1199880" cy="1871640"/>
            </a:xfrm>
            <a:custGeom>
              <a:avLst/>
              <a:gdLst/>
              <a:ahLst/>
              <a:rect l="l" t="t" r="r" b="b"/>
              <a:pathLst>
                <a:path w="756" h="1179">
                  <a:moveTo>
                    <a:pt x="121" y="0"/>
                  </a:moveTo>
                  <a:cubicBezTo>
                    <a:pt x="102" y="106"/>
                    <a:pt x="83" y="212"/>
                    <a:pt x="121" y="272"/>
                  </a:cubicBezTo>
                  <a:cubicBezTo>
                    <a:pt x="159" y="332"/>
                    <a:pt x="280" y="348"/>
                    <a:pt x="348" y="363"/>
                  </a:cubicBezTo>
                  <a:cubicBezTo>
                    <a:pt x="416" y="378"/>
                    <a:pt x="491" y="333"/>
                    <a:pt x="529" y="363"/>
                  </a:cubicBezTo>
                  <a:cubicBezTo>
                    <a:pt x="567" y="393"/>
                    <a:pt x="649" y="506"/>
                    <a:pt x="574" y="544"/>
                  </a:cubicBezTo>
                  <a:cubicBezTo>
                    <a:pt x="499" y="582"/>
                    <a:pt x="150" y="537"/>
                    <a:pt x="75" y="590"/>
                  </a:cubicBezTo>
                  <a:cubicBezTo>
                    <a:pt x="0" y="643"/>
                    <a:pt x="23" y="809"/>
                    <a:pt x="121" y="862"/>
                  </a:cubicBezTo>
                  <a:cubicBezTo>
                    <a:pt x="219" y="915"/>
                    <a:pt x="574" y="854"/>
                    <a:pt x="665" y="907"/>
                  </a:cubicBezTo>
                  <a:cubicBezTo>
                    <a:pt x="756" y="960"/>
                    <a:pt x="665" y="1134"/>
                    <a:pt x="665" y="1179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63520" y="3289320"/>
              <a:ext cx="1081080" cy="1727280"/>
            </a:xfrm>
            <a:custGeom>
              <a:avLst/>
              <a:gdLst/>
              <a:ahLst/>
              <a:rect l="l" t="t" r="r" b="b"/>
              <a:pathLst>
                <a:path w="681" h="1088">
                  <a:moveTo>
                    <a:pt x="136" y="0"/>
                  </a:moveTo>
                  <a:cubicBezTo>
                    <a:pt x="109" y="49"/>
                    <a:pt x="83" y="98"/>
                    <a:pt x="136" y="136"/>
                  </a:cubicBezTo>
                  <a:cubicBezTo>
                    <a:pt x="189" y="174"/>
                    <a:pt x="378" y="151"/>
                    <a:pt x="454" y="227"/>
                  </a:cubicBezTo>
                  <a:cubicBezTo>
                    <a:pt x="530" y="303"/>
                    <a:pt x="620" y="514"/>
                    <a:pt x="590" y="590"/>
                  </a:cubicBezTo>
                  <a:cubicBezTo>
                    <a:pt x="560" y="666"/>
                    <a:pt x="363" y="665"/>
                    <a:pt x="272" y="680"/>
                  </a:cubicBezTo>
                  <a:cubicBezTo>
                    <a:pt x="181" y="695"/>
                    <a:pt x="75" y="665"/>
                    <a:pt x="45" y="680"/>
                  </a:cubicBezTo>
                  <a:cubicBezTo>
                    <a:pt x="15" y="695"/>
                    <a:pt x="0" y="756"/>
                    <a:pt x="91" y="771"/>
                  </a:cubicBezTo>
                  <a:cubicBezTo>
                    <a:pt x="182" y="786"/>
                    <a:pt x="499" y="718"/>
                    <a:pt x="590" y="771"/>
                  </a:cubicBezTo>
                  <a:cubicBezTo>
                    <a:pt x="681" y="824"/>
                    <a:pt x="628" y="1035"/>
                    <a:pt x="635" y="1088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 rot="19789800">
            <a:off x="684720" y="4936680"/>
            <a:ext cx="2627280" cy="5814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657440" y="2705040"/>
            <a:ext cx="129672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58920" y="1841400"/>
            <a:ext cx="309564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uodeno yey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0560" y="1625760"/>
            <a:ext cx="3384360" cy="15721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E  (+) 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FUSION PA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78200" y="1625760"/>
            <a:ext cx="649440" cy="215640"/>
          </a:xfrm>
          <a:custGeom>
            <a:avLst/>
            <a:gdLst>
              <a:gd name="textAreaLeft" fmla="*/ 113400 w 649440"/>
              <a:gd name="textAreaRight" fmla="*/ 470880 w 64944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00720" y="4869000"/>
            <a:ext cx="1800000" cy="433080"/>
          </a:xfrm>
          <a:prstGeom prst="rightArrow">
            <a:avLst>
              <a:gd name="adj1" fmla="val 50000"/>
              <a:gd name="adj2" fmla="val 103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3640" y="4221000"/>
            <a:ext cx="26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QUIDO INTERST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00720" y="5373720"/>
            <a:ext cx="143964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O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503800">
            <a:off x="3562920" y="3860280"/>
            <a:ext cx="2376360" cy="459720"/>
          </a:xfrm>
          <a:prstGeom prst="rect">
            <a:avLst/>
          </a:prstGeom>
          <a:solidFill>
            <a:srgbClr val="eb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-Calbin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27640" y="3645000"/>
            <a:ext cx="166680" cy="2663640"/>
          </a:xfrm>
          <a:custGeom>
            <a:avLst/>
            <a:gdLst/>
            <a:ahLst/>
            <a:rect l="l" t="t" r="r" b="b"/>
            <a:pathLst>
              <a:path w="105" h="1678">
                <a:moveTo>
                  <a:pt x="105" y="0"/>
                </a:moveTo>
                <a:cubicBezTo>
                  <a:pt x="67" y="49"/>
                  <a:pt x="30" y="99"/>
                  <a:pt x="15" y="182"/>
                </a:cubicBezTo>
                <a:cubicBezTo>
                  <a:pt x="0" y="265"/>
                  <a:pt x="8" y="416"/>
                  <a:pt x="15" y="499"/>
                </a:cubicBezTo>
                <a:cubicBezTo>
                  <a:pt x="22" y="582"/>
                  <a:pt x="53" y="574"/>
                  <a:pt x="60" y="680"/>
                </a:cubicBezTo>
                <a:cubicBezTo>
                  <a:pt x="67" y="786"/>
                  <a:pt x="67" y="1028"/>
                  <a:pt x="60" y="1134"/>
                </a:cubicBezTo>
                <a:cubicBezTo>
                  <a:pt x="53" y="1240"/>
                  <a:pt x="7" y="1225"/>
                  <a:pt x="15" y="1316"/>
                </a:cubicBezTo>
                <a:cubicBezTo>
                  <a:pt x="23" y="1407"/>
                  <a:pt x="90" y="1618"/>
                  <a:pt x="105" y="1678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635280" y="3860640"/>
            <a:ext cx="720720" cy="936720"/>
            <a:chOff x="3635280" y="3860640"/>
            <a:chExt cx="720720" cy="936720"/>
          </a:xfrm>
        </p:grpSpPr>
        <p:sp>
          <p:nvSpPr>
            <p:cNvPr id="200" name=""/>
            <p:cNvSpPr/>
            <p:nvPr/>
          </p:nvSpPr>
          <p:spPr>
            <a:xfrm>
              <a:off x="3635280" y="3933720"/>
              <a:ext cx="720720" cy="863640"/>
            </a:xfrm>
            <a:prstGeom prst="ellipse">
              <a:avLst/>
            </a:prstGeom>
            <a:solidFill>
              <a:srgbClr val="ec372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81440" y="3860640"/>
              <a:ext cx="503280" cy="648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7380360" y="5516640"/>
            <a:ext cx="100800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88000" y="342900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mbrana ser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372360" y="3716280"/>
            <a:ext cx="28728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85068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O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1844640"/>
            <a:ext cx="4176720" cy="3319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iq. Extracelular    5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racelular              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ueso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       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6200" y="5229360"/>
            <a:ext cx="3889440" cy="116928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ADULTO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20 GRS. TO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27640" y="623736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03640" y="5589720"/>
            <a:ext cx="493236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sma: [N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]  135-145 mEq/li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GULACION DE LA ABSORCION DE CALCIO EN 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2133720"/>
            <a:ext cx="3024000" cy="19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IDO CIT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CT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4365720"/>
            <a:ext cx="3024360" cy="1942920"/>
          </a:xfrm>
          <a:prstGeom prst="ellipse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IDO FI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IDO OXA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80000" y="2565360"/>
            <a:ext cx="1296720" cy="432000"/>
          </a:xfrm>
          <a:custGeom>
            <a:avLst/>
            <a:gdLst>
              <a:gd name="textAreaLeft" fmla="*/ 226800 w 1296720"/>
              <a:gd name="textAreaRight" fmla="*/ 940320 w 129672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51280" y="5157720"/>
            <a:ext cx="1297080" cy="432000"/>
          </a:xfrm>
          <a:custGeom>
            <a:avLst/>
            <a:gdLst>
              <a:gd name="textAreaLeft" fmla="*/ 226800 w 1297080"/>
              <a:gd name="textAreaRight" fmla="*/ 940320 w 129708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19640" y="2060640"/>
            <a:ext cx="3240000" cy="94716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VORECEN LA ABSOR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92720" y="4941720"/>
            <a:ext cx="3240000" cy="1595880"/>
          </a:xfrm>
          <a:prstGeom prst="rect">
            <a:avLst/>
          </a:prstGeom>
          <a:solidFill>
            <a:srgbClr val="ea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ALES INSOLU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elimin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LCIO EN EL PLA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00000" y="2708280"/>
            <a:ext cx="345600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lcio iónico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3645000"/>
            <a:ext cx="540072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lcio unido a proteínas 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0000" y="4869000"/>
            <a:ext cx="547236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lcio no ionizable en forma de sales no disociables 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356000" y="1628640"/>
            <a:ext cx="4392720" cy="1943280"/>
            <a:chOff x="4356000" y="1628640"/>
            <a:chExt cx="4392720" cy="1943280"/>
          </a:xfrm>
        </p:grpSpPr>
        <p:sp>
          <p:nvSpPr>
            <p:cNvPr id="217" name=""/>
            <p:cNvSpPr/>
            <p:nvPr/>
          </p:nvSpPr>
          <p:spPr>
            <a:xfrm>
              <a:off x="5796000" y="1628640"/>
              <a:ext cx="2952720" cy="194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FORMA ACTIV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4356000" y="2924280"/>
              <a:ext cx="1440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IMINACION DE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28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Ñ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&lt;&lt;&lt; SU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CTA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00360" y="1916280"/>
            <a:ext cx="1584360" cy="433080"/>
          </a:xfrm>
          <a:prstGeom prst="rightArrow">
            <a:avLst>
              <a:gd name="adj1" fmla="val 50000"/>
              <a:gd name="adj2" fmla="val 914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27640" y="1484280"/>
            <a:ext cx="3673440" cy="1657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filtra el 60%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reabsorbe el 5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836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OMEOSTASIS DEL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43280" y="1197000"/>
            <a:ext cx="331308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. PARATIRO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3284640"/>
            <a:ext cx="259236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1,25 (OH)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17733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[Ca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8360" y="1268280"/>
            <a:ext cx="287280" cy="960480"/>
          </a:xfrm>
          <a:prstGeom prst="downArrow">
            <a:avLst>
              <a:gd name="adj1" fmla="val 50000"/>
              <a:gd name="adj2" fmla="val 83584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0920" y="1773360"/>
            <a:ext cx="720720" cy="179280"/>
          </a:xfrm>
          <a:custGeom>
            <a:avLst/>
            <a:gdLst>
              <a:gd name="textAreaLeft" fmla="*/ 126000 w 720720"/>
              <a:gd name="textAreaRight" fmla="*/ 522720 w 720720"/>
              <a:gd name="textAreaTop" fmla="*/ 23760 h 179280"/>
              <a:gd name="textAreaBottom" fmla="*/ 155520 h 17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43640" y="1413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vilización    de cal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8317080" y="1844640"/>
            <a:ext cx="629640" cy="1746360"/>
            <a:chOff x="8317080" y="1844640"/>
            <a:chExt cx="629640" cy="174636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rcRect l="70378" t="38198" r="23655" b="36340"/>
            <a:stretch/>
          </p:blipFill>
          <p:spPr>
            <a:xfrm>
              <a:off x="8317080" y="1844640"/>
              <a:ext cx="591120" cy="17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8317080" y="2542680"/>
              <a:ext cx="126360" cy="407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820720" y="2600280"/>
              <a:ext cx="126000" cy="407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564000" y="4509000"/>
            <a:ext cx="1746360" cy="629640"/>
            <a:chOff x="3564000" y="4509000"/>
            <a:chExt cx="1746360" cy="629640"/>
          </a:xfrm>
        </p:grpSpPr>
        <p:pic>
          <p:nvPicPr>
            <p:cNvPr id="235" name="" descr=""/>
            <p:cNvPicPr/>
            <p:nvPr/>
          </p:nvPicPr>
          <p:blipFill>
            <a:blip r:embed="rId2"/>
            <a:srcRect l="70378" t="38198" r="23655" b="36340"/>
            <a:stretch/>
          </p:blipFill>
          <p:spPr>
            <a:xfrm rot="16200000">
              <a:off x="4141440" y="3969720"/>
              <a:ext cx="591120" cy="17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 rot="16200000">
              <a:off x="4402800" y="4871520"/>
              <a:ext cx="126360" cy="407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6200000">
              <a:off x="4460400" y="4367880"/>
              <a:ext cx="126000" cy="407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924360" y="3357720"/>
            <a:ext cx="576000" cy="939600"/>
            <a:chOff x="3924360" y="3357720"/>
            <a:chExt cx="576000" cy="939600"/>
          </a:xfrm>
        </p:grpSpPr>
        <p:sp>
          <p:nvSpPr>
            <p:cNvPr id="239" name=""/>
            <p:cNvSpPr/>
            <p:nvPr/>
          </p:nvSpPr>
          <p:spPr>
            <a:xfrm>
              <a:off x="3924360" y="3357720"/>
              <a:ext cx="514440" cy="939600"/>
            </a:xfrm>
            <a:custGeom>
              <a:avLst/>
              <a:gdLst/>
              <a:ahLst/>
              <a:rect l="l" t="t" r="r" b="b"/>
              <a:pathLst>
                <a:path w="756" h="1179">
                  <a:moveTo>
                    <a:pt x="121" y="0"/>
                  </a:moveTo>
                  <a:cubicBezTo>
                    <a:pt x="102" y="106"/>
                    <a:pt x="83" y="212"/>
                    <a:pt x="121" y="272"/>
                  </a:cubicBezTo>
                  <a:cubicBezTo>
                    <a:pt x="159" y="332"/>
                    <a:pt x="280" y="348"/>
                    <a:pt x="348" y="363"/>
                  </a:cubicBezTo>
                  <a:cubicBezTo>
                    <a:pt x="416" y="378"/>
                    <a:pt x="491" y="333"/>
                    <a:pt x="529" y="363"/>
                  </a:cubicBezTo>
                  <a:cubicBezTo>
                    <a:pt x="567" y="393"/>
                    <a:pt x="649" y="506"/>
                    <a:pt x="574" y="544"/>
                  </a:cubicBezTo>
                  <a:cubicBezTo>
                    <a:pt x="499" y="582"/>
                    <a:pt x="150" y="537"/>
                    <a:pt x="75" y="590"/>
                  </a:cubicBezTo>
                  <a:cubicBezTo>
                    <a:pt x="0" y="643"/>
                    <a:pt x="23" y="809"/>
                    <a:pt x="121" y="862"/>
                  </a:cubicBezTo>
                  <a:cubicBezTo>
                    <a:pt x="219" y="915"/>
                    <a:pt x="574" y="854"/>
                    <a:pt x="665" y="907"/>
                  </a:cubicBezTo>
                  <a:cubicBezTo>
                    <a:pt x="756" y="960"/>
                    <a:pt x="665" y="1134"/>
                    <a:pt x="665" y="1179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37040" y="3361680"/>
              <a:ext cx="463320" cy="867240"/>
            </a:xfrm>
            <a:custGeom>
              <a:avLst/>
              <a:gdLst/>
              <a:ahLst/>
              <a:rect l="l" t="t" r="r" b="b"/>
              <a:pathLst>
                <a:path w="681" h="1088">
                  <a:moveTo>
                    <a:pt x="136" y="0"/>
                  </a:moveTo>
                  <a:cubicBezTo>
                    <a:pt x="109" y="49"/>
                    <a:pt x="83" y="98"/>
                    <a:pt x="136" y="136"/>
                  </a:cubicBezTo>
                  <a:cubicBezTo>
                    <a:pt x="189" y="174"/>
                    <a:pt x="378" y="151"/>
                    <a:pt x="454" y="227"/>
                  </a:cubicBezTo>
                  <a:cubicBezTo>
                    <a:pt x="530" y="303"/>
                    <a:pt x="620" y="514"/>
                    <a:pt x="590" y="590"/>
                  </a:cubicBezTo>
                  <a:cubicBezTo>
                    <a:pt x="560" y="666"/>
                    <a:pt x="363" y="665"/>
                    <a:pt x="272" y="680"/>
                  </a:cubicBezTo>
                  <a:cubicBezTo>
                    <a:pt x="181" y="695"/>
                    <a:pt x="75" y="665"/>
                    <a:pt x="45" y="680"/>
                  </a:cubicBezTo>
                  <a:cubicBezTo>
                    <a:pt x="15" y="695"/>
                    <a:pt x="0" y="756"/>
                    <a:pt x="91" y="771"/>
                  </a:cubicBezTo>
                  <a:cubicBezTo>
                    <a:pt x="182" y="786"/>
                    <a:pt x="499" y="718"/>
                    <a:pt x="590" y="771"/>
                  </a:cubicBezTo>
                  <a:cubicBezTo>
                    <a:pt x="681" y="824"/>
                    <a:pt x="628" y="1035"/>
                    <a:pt x="635" y="1088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4932360" y="3213000"/>
            <a:ext cx="1800360" cy="1015920"/>
          </a:xfrm>
          <a:prstGeom prst="rect">
            <a:avLst/>
          </a:prstGeom>
          <a:solidFill>
            <a:srgbClr val="888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bsor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51640" y="4365720"/>
            <a:ext cx="2520720" cy="1015920"/>
          </a:xfrm>
          <a:prstGeom prst="rect">
            <a:avLst/>
          </a:prstGeom>
          <a:solidFill>
            <a:srgbClr val="888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iner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or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0920" y="5084640"/>
            <a:ext cx="259236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róg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16360" y="580536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059280" y="3644640"/>
            <a:ext cx="79200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59280" y="4149720"/>
            <a:ext cx="504720" cy="35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92720" y="48690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24360" y="5661000"/>
            <a:ext cx="446400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hiben la resorción ó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DISTRIBUCION DEL HIER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EMOBLOBIN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6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IOGLOB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ITOCR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TEINAS Fe-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TALASAS Y PEROXID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ERRI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43640" y="1916280"/>
            <a:ext cx="360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Transporte de O</a:t>
            </a:r>
            <a:r>
              <a:rPr b="1" lang="es-ES_tradnl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40360" y="3068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Transporte de e</a:t>
            </a:r>
            <a:r>
              <a:rPr b="1" lang="es-ES_tradnl" sz="28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11640" y="4581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iminacion de 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80000" y="5445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Almace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03640" y="1700280"/>
            <a:ext cx="432000" cy="936720"/>
          </a:xfrm>
          <a:custGeom>
            <a:avLst/>
            <a:gdLst>
              <a:gd name="textAreaLeft" fmla="*/ 0 w 432000"/>
              <a:gd name="textAreaRight" fmla="*/ 155880 w 432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67280" y="2852640"/>
            <a:ext cx="431640" cy="936720"/>
          </a:xfrm>
          <a:custGeom>
            <a:avLst/>
            <a:gdLst>
              <a:gd name="textAreaLeft" fmla="*/ 0 w 431640"/>
              <a:gd name="textAreaRight" fmla="*/ 155880 w 431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03640" y="5661000"/>
            <a:ext cx="720720" cy="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UENTES NATURALES DE Hier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86364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IMENTOS DE ORIGEN ANIMAL Y VEGETALES VER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2781360"/>
            <a:ext cx="8820000" cy="181800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ngesta diaria recomend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Lactant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Suplementos    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Niñ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y Adult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18 mgrs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mbarazadas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&gt;  18 mgrs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0920" y="5013360"/>
            <a:ext cx="2376360" cy="1295280"/>
          </a:xfrm>
          <a:prstGeom prst="ellipse">
            <a:avLst/>
          </a:prstGeom>
          <a:solidFill>
            <a:srgbClr val="f8a6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érdida de 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19640" y="5013360"/>
            <a:ext cx="5327640" cy="1595880"/>
          </a:xfrm>
          <a:prstGeom prst="rect">
            <a:avLst/>
          </a:prstGeom>
          <a:solidFill>
            <a:srgbClr val="d75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ambio cél. Intestinales y epitel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nstr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71640" y="5661000"/>
            <a:ext cx="505080" cy="289080"/>
          </a:xfrm>
          <a:prstGeom prst="rightArrow">
            <a:avLst>
              <a:gd name="adj1" fmla="val 50000"/>
              <a:gd name="adj2" fmla="val 4368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4797360"/>
            <a:ext cx="4284720" cy="2060640"/>
          </a:xfrm>
          <a:prstGeom prst="rect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BSORCION DE 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727920" y="2530080"/>
            <a:ext cx="1661760" cy="2093400"/>
            <a:chOff x="727920" y="2530080"/>
            <a:chExt cx="1661760" cy="2093400"/>
          </a:xfrm>
        </p:grpSpPr>
        <p:sp>
          <p:nvSpPr>
            <p:cNvPr id="267" name=""/>
            <p:cNvSpPr/>
            <p:nvPr/>
          </p:nvSpPr>
          <p:spPr>
            <a:xfrm rot="20914200">
              <a:off x="901440" y="2651400"/>
              <a:ext cx="1199880" cy="1871640"/>
            </a:xfrm>
            <a:custGeom>
              <a:avLst/>
              <a:gdLst/>
              <a:ahLst/>
              <a:rect l="l" t="t" r="r" b="b"/>
              <a:pathLst>
                <a:path w="756" h="1179">
                  <a:moveTo>
                    <a:pt x="121" y="0"/>
                  </a:moveTo>
                  <a:cubicBezTo>
                    <a:pt x="102" y="106"/>
                    <a:pt x="83" y="212"/>
                    <a:pt x="121" y="272"/>
                  </a:cubicBezTo>
                  <a:cubicBezTo>
                    <a:pt x="159" y="332"/>
                    <a:pt x="280" y="348"/>
                    <a:pt x="348" y="363"/>
                  </a:cubicBezTo>
                  <a:cubicBezTo>
                    <a:pt x="416" y="378"/>
                    <a:pt x="491" y="333"/>
                    <a:pt x="529" y="363"/>
                  </a:cubicBezTo>
                  <a:cubicBezTo>
                    <a:pt x="567" y="393"/>
                    <a:pt x="649" y="506"/>
                    <a:pt x="574" y="544"/>
                  </a:cubicBezTo>
                  <a:cubicBezTo>
                    <a:pt x="499" y="582"/>
                    <a:pt x="150" y="537"/>
                    <a:pt x="75" y="590"/>
                  </a:cubicBezTo>
                  <a:cubicBezTo>
                    <a:pt x="0" y="643"/>
                    <a:pt x="23" y="809"/>
                    <a:pt x="121" y="862"/>
                  </a:cubicBezTo>
                  <a:cubicBezTo>
                    <a:pt x="219" y="915"/>
                    <a:pt x="574" y="854"/>
                    <a:pt x="665" y="907"/>
                  </a:cubicBezTo>
                  <a:cubicBezTo>
                    <a:pt x="756" y="960"/>
                    <a:pt x="665" y="1134"/>
                    <a:pt x="665" y="1179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20914200">
              <a:off x="1148040" y="2619720"/>
              <a:ext cx="1081080" cy="1727280"/>
            </a:xfrm>
            <a:custGeom>
              <a:avLst/>
              <a:gdLst/>
              <a:ahLst/>
              <a:rect l="l" t="t" r="r" b="b"/>
              <a:pathLst>
                <a:path w="681" h="1088">
                  <a:moveTo>
                    <a:pt x="136" y="0"/>
                  </a:moveTo>
                  <a:cubicBezTo>
                    <a:pt x="109" y="49"/>
                    <a:pt x="83" y="98"/>
                    <a:pt x="136" y="136"/>
                  </a:cubicBezTo>
                  <a:cubicBezTo>
                    <a:pt x="189" y="174"/>
                    <a:pt x="378" y="151"/>
                    <a:pt x="454" y="227"/>
                  </a:cubicBezTo>
                  <a:cubicBezTo>
                    <a:pt x="530" y="303"/>
                    <a:pt x="620" y="514"/>
                    <a:pt x="590" y="590"/>
                  </a:cubicBezTo>
                  <a:cubicBezTo>
                    <a:pt x="560" y="666"/>
                    <a:pt x="363" y="665"/>
                    <a:pt x="272" y="680"/>
                  </a:cubicBezTo>
                  <a:cubicBezTo>
                    <a:pt x="181" y="695"/>
                    <a:pt x="75" y="665"/>
                    <a:pt x="45" y="680"/>
                  </a:cubicBezTo>
                  <a:cubicBezTo>
                    <a:pt x="15" y="695"/>
                    <a:pt x="0" y="756"/>
                    <a:pt x="91" y="771"/>
                  </a:cubicBezTo>
                  <a:cubicBezTo>
                    <a:pt x="182" y="786"/>
                    <a:pt x="499" y="718"/>
                    <a:pt x="590" y="771"/>
                  </a:cubicBezTo>
                  <a:cubicBezTo>
                    <a:pt x="681" y="824"/>
                    <a:pt x="628" y="1035"/>
                    <a:pt x="635" y="1088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 rot="19789800">
            <a:off x="1259280" y="3789000"/>
            <a:ext cx="2627280" cy="5814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195280" y="2997360"/>
            <a:ext cx="5410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16000" y="1628640"/>
            <a:ext cx="309564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uodeno yey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0560" y="1625760"/>
            <a:ext cx="3384360" cy="1015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Cél.borde cepil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78200" y="1625760"/>
            <a:ext cx="649440" cy="215640"/>
          </a:xfrm>
          <a:custGeom>
            <a:avLst/>
            <a:gdLst>
              <a:gd name="textAreaLeft" fmla="*/ 113400 w 649440"/>
              <a:gd name="textAreaRight" fmla="*/ 470880 w 64944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35280" y="3500280"/>
            <a:ext cx="3024360" cy="31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é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04000" y="3645000"/>
            <a:ext cx="792360" cy="1152360"/>
          </a:xfrm>
          <a:prstGeom prst="ellipse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</a:rPr>
              <a:t>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5157720"/>
            <a:ext cx="1657080" cy="1152720"/>
          </a:xfrm>
          <a:prstGeom prst="ellipse">
            <a:avLst/>
          </a:prstGeom>
          <a:solidFill>
            <a:srgbClr val="f8a6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e+H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3573360"/>
            <a:ext cx="792360" cy="1152720"/>
          </a:xfrm>
          <a:prstGeom prst="ellipse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</a:rPr>
              <a:t>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08360" y="4221000"/>
            <a:ext cx="792360" cy="1152720"/>
          </a:xfrm>
          <a:prstGeom prst="ellipse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</a:rPr>
              <a:t>+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4941720"/>
            <a:ext cx="1295280" cy="6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erri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571640" y="4292640"/>
            <a:ext cx="4316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27640" y="3789360"/>
            <a:ext cx="36036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203640" y="5229360"/>
            <a:ext cx="720720" cy="2872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9640" y="5229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Apotransfer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4360" y="6093000"/>
            <a:ext cx="2232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Transfer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63640" y="5734080"/>
            <a:ext cx="287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4941720"/>
            <a:ext cx="46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P  L ASMA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51280" y="2887560"/>
            <a:ext cx="2089080" cy="828720"/>
          </a:xfrm>
          <a:custGeom>
            <a:avLst/>
            <a:gdLst/>
            <a:ahLst/>
            <a:rect l="l" t="t" r="r" b="b"/>
            <a:pathLst>
              <a:path w="2314" h="522">
                <a:moveTo>
                  <a:pt x="0" y="250"/>
                </a:moveTo>
                <a:cubicBezTo>
                  <a:pt x="257" y="148"/>
                  <a:pt x="515" y="46"/>
                  <a:pt x="772" y="23"/>
                </a:cubicBezTo>
                <a:cubicBezTo>
                  <a:pt x="1029" y="0"/>
                  <a:pt x="1286" y="31"/>
                  <a:pt x="1543" y="114"/>
                </a:cubicBezTo>
                <a:cubicBezTo>
                  <a:pt x="1800" y="197"/>
                  <a:pt x="2057" y="359"/>
                  <a:pt x="2314" y="522"/>
                </a:cubicBezTo>
              </a:path>
            </a:pathLst>
          </a:custGeom>
          <a:noFill/>
          <a:ln w="34920">
            <a:solidFill>
              <a:srgbClr val="0000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101080" y="3645000"/>
            <a:ext cx="792000" cy="1152360"/>
          </a:xfrm>
          <a:prstGeom prst="ellipse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7740720" y="4292640"/>
            <a:ext cx="28728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96360" y="3573360"/>
            <a:ext cx="43164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300720" y="4797000"/>
            <a:ext cx="719280" cy="360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6443640" y="4294080"/>
            <a:ext cx="503280" cy="287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4941720"/>
            <a:ext cx="5047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4500360" y="5157360"/>
            <a:ext cx="43164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ficiencia de Hierro en la di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388908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emia ferropr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iño premat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84720" y="2205000"/>
            <a:ext cx="4319640" cy="520560"/>
          </a:xfrm>
          <a:prstGeom prst="rect">
            <a:avLst/>
          </a:prstGeom>
          <a:solidFill>
            <a:srgbClr val="f8a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lta carne en la di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284720" y="3429000"/>
            <a:ext cx="3960720" cy="1036080"/>
          </a:xfrm>
          <a:prstGeom prst="rect">
            <a:avLst/>
          </a:prstGeom>
          <a:solidFill>
            <a:srgbClr val="f8a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o posee reser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 hí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324000" y="1268280"/>
            <a:ext cx="4895640" cy="5373720"/>
            <a:chOff x="324000" y="1268280"/>
            <a:chExt cx="4895640" cy="5373720"/>
          </a:xfrm>
        </p:grpSpPr>
        <p:grpSp>
          <p:nvGrpSpPr>
            <p:cNvPr id="300" name=""/>
            <p:cNvGrpSpPr/>
            <p:nvPr/>
          </p:nvGrpSpPr>
          <p:grpSpPr>
            <a:xfrm>
              <a:off x="539640" y="1268280"/>
              <a:ext cx="4680000" cy="5373720"/>
              <a:chOff x="539640" y="1268280"/>
              <a:chExt cx="4680000" cy="537372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539640" y="1268280"/>
                <a:ext cx="4492800" cy="5373720"/>
                <a:chOff x="539640" y="1268280"/>
                <a:chExt cx="4492800" cy="537372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539640" y="1268280"/>
                  <a:ext cx="4492800" cy="5373720"/>
                  <a:chOff x="539640" y="1268280"/>
                  <a:chExt cx="4492800" cy="5373720"/>
                </a:xfrm>
              </p:grpSpPr>
              <p:pic>
                <p:nvPicPr>
                  <p:cNvPr id="303" name="" descr=""/>
                  <p:cNvPicPr/>
                  <p:nvPr/>
                </p:nvPicPr>
                <p:blipFill>
                  <a:blip r:embed="rId1"/>
                  <a:srcRect l="47816" t="4977" r="1643" b="3841"/>
                  <a:stretch/>
                </p:blipFill>
                <p:spPr>
                  <a:xfrm>
                    <a:off x="539640" y="1268280"/>
                    <a:ext cx="449280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4" name=""/>
                  <p:cNvSpPr/>
                  <p:nvPr/>
                </p:nvSpPr>
                <p:spPr>
                  <a:xfrm>
                    <a:off x="1692360" y="1341360"/>
                    <a:ext cx="2879640" cy="5749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5" name=""/>
                <p:cNvSpPr/>
                <p:nvPr/>
              </p:nvSpPr>
              <p:spPr>
                <a:xfrm>
                  <a:off x="3348000" y="2060640"/>
                  <a:ext cx="0" cy="576360"/>
                </a:xfrm>
                <a:prstGeom prst="line">
                  <a:avLst/>
                </a:prstGeom>
                <a:ln w="108000">
                  <a:solidFill>
                    <a:srgbClr val="eaa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"/>
              <p:cNvSpPr/>
              <p:nvPr/>
            </p:nvSpPr>
            <p:spPr>
              <a:xfrm>
                <a:off x="3851280" y="5950080"/>
                <a:ext cx="1368360" cy="64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324000" y="5805360"/>
              <a:ext cx="1368360" cy="64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ANEJO RENAL DEL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08000" y="6035760"/>
            <a:ext cx="1727280" cy="8254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SA DE HEN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1413000"/>
            <a:ext cx="1511280" cy="825480"/>
          </a:xfrm>
          <a:prstGeom prst="rect">
            <a:avLst/>
          </a:prstGeom>
          <a:solidFill>
            <a:srgbClr val="2d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UBULO   DI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79280" y="1197000"/>
            <a:ext cx="14763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F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195640" y="1125360"/>
            <a:ext cx="1800000" cy="1366920"/>
            <a:chOff x="2195640" y="1125360"/>
            <a:chExt cx="1800000" cy="1366920"/>
          </a:xfrm>
        </p:grpSpPr>
        <p:sp>
          <p:nvSpPr>
            <p:cNvPr id="313" name=""/>
            <p:cNvSpPr/>
            <p:nvPr/>
          </p:nvSpPr>
          <p:spPr>
            <a:xfrm>
              <a:off x="2195640" y="1125360"/>
              <a:ext cx="1800000" cy="825480"/>
            </a:xfrm>
            <a:prstGeom prst="rect">
              <a:avLst/>
            </a:prstGeom>
            <a:solidFill>
              <a:srgbClr val="de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TUBULO   PROXIM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700360" y="1916280"/>
              <a:ext cx="216000" cy="576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 flipH="1">
            <a:off x="3564000" y="2060640"/>
            <a:ext cx="1224000" cy="720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48360" y="2492280"/>
            <a:ext cx="2592360" cy="101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ILTRAD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eliminación 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0" y="3933360"/>
            <a:ext cx="2411280" cy="1395360"/>
            <a:chOff x="0" y="3933360"/>
            <a:chExt cx="2411280" cy="1395360"/>
          </a:xfrm>
        </p:grpSpPr>
        <p:sp>
          <p:nvSpPr>
            <p:cNvPr id="318" name=""/>
            <p:cNvSpPr/>
            <p:nvPr/>
          </p:nvSpPr>
          <p:spPr>
            <a:xfrm>
              <a:off x="0" y="4869000"/>
              <a:ext cx="241128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LOMERU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1835280" y="3933360"/>
              <a:ext cx="0" cy="8636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924000" y="4292640"/>
            <a:ext cx="2448360" cy="825480"/>
            <a:chOff x="3924000" y="4292640"/>
            <a:chExt cx="2448360" cy="825480"/>
          </a:xfrm>
        </p:grpSpPr>
        <p:sp>
          <p:nvSpPr>
            <p:cNvPr id="321" name=""/>
            <p:cNvSpPr/>
            <p:nvPr/>
          </p:nvSpPr>
          <p:spPr>
            <a:xfrm>
              <a:off x="4427640" y="4292640"/>
              <a:ext cx="1944720" cy="825480"/>
            </a:xfrm>
            <a:prstGeom prst="rect">
              <a:avLst/>
            </a:prstGeom>
            <a:solidFill>
              <a:srgbClr val="008d8a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TUBULO   COLE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924000" y="4941720"/>
              <a:ext cx="576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492360" y="4292640"/>
            <a:ext cx="5435640" cy="21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ABSORCION (99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ADOR DE SODIO: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T.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TRANSPORTE N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/2Cl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A. 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NALES DE SO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324000" y="1268280"/>
            <a:ext cx="4895640" cy="5373720"/>
            <a:chOff x="324000" y="1268280"/>
            <a:chExt cx="4895640" cy="5373720"/>
          </a:xfrm>
        </p:grpSpPr>
        <p:grpSp>
          <p:nvGrpSpPr>
            <p:cNvPr id="325" name=""/>
            <p:cNvGrpSpPr/>
            <p:nvPr/>
          </p:nvGrpSpPr>
          <p:grpSpPr>
            <a:xfrm>
              <a:off x="539640" y="1268280"/>
              <a:ext cx="4680000" cy="5373720"/>
              <a:chOff x="539640" y="1268280"/>
              <a:chExt cx="4680000" cy="53737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539640" y="1268280"/>
                <a:ext cx="4492800" cy="5373720"/>
                <a:chOff x="539640" y="1268280"/>
                <a:chExt cx="4492800" cy="537372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539640" y="1268280"/>
                  <a:ext cx="4492800" cy="5373720"/>
                  <a:chOff x="539640" y="1268280"/>
                  <a:chExt cx="4492800" cy="5373720"/>
                </a:xfrm>
              </p:grpSpPr>
              <p:pic>
                <p:nvPicPr>
                  <p:cNvPr id="328" name="" descr=""/>
                  <p:cNvPicPr/>
                  <p:nvPr/>
                </p:nvPicPr>
                <p:blipFill>
                  <a:blip r:embed="rId1"/>
                  <a:srcRect l="47816" t="4977" r="1643" b="3841"/>
                  <a:stretch/>
                </p:blipFill>
                <p:spPr>
                  <a:xfrm>
                    <a:off x="539640" y="1268280"/>
                    <a:ext cx="449280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9" name=""/>
                  <p:cNvSpPr/>
                  <p:nvPr/>
                </p:nvSpPr>
                <p:spPr>
                  <a:xfrm>
                    <a:off x="1692360" y="1341360"/>
                    <a:ext cx="2879640" cy="5749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0" name=""/>
                <p:cNvSpPr/>
                <p:nvPr/>
              </p:nvSpPr>
              <p:spPr>
                <a:xfrm>
                  <a:off x="3348000" y="2060640"/>
                  <a:ext cx="0" cy="576360"/>
                </a:xfrm>
                <a:prstGeom prst="line">
                  <a:avLst/>
                </a:prstGeom>
                <a:ln w="108000">
                  <a:solidFill>
                    <a:srgbClr val="eaa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3851280" y="5950080"/>
                <a:ext cx="1368360" cy="64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324000" y="5805360"/>
              <a:ext cx="1368360" cy="64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5068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ANEJO RENAL DEL CLOR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908000" y="6035760"/>
            <a:ext cx="1727280" cy="8254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SA DE HEN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788000" y="1413000"/>
            <a:ext cx="1511280" cy="825480"/>
          </a:xfrm>
          <a:prstGeom prst="rect">
            <a:avLst/>
          </a:prstGeom>
          <a:solidFill>
            <a:srgbClr val="2d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UBULO   DI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79280" y="1197000"/>
            <a:ext cx="14763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F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195640" y="1125360"/>
            <a:ext cx="1800000" cy="1366920"/>
            <a:chOff x="2195640" y="1125360"/>
            <a:chExt cx="1800000" cy="1366920"/>
          </a:xfrm>
        </p:grpSpPr>
        <p:sp>
          <p:nvSpPr>
            <p:cNvPr id="338" name=""/>
            <p:cNvSpPr/>
            <p:nvPr/>
          </p:nvSpPr>
          <p:spPr>
            <a:xfrm>
              <a:off x="2195640" y="1125360"/>
              <a:ext cx="1800000" cy="825480"/>
            </a:xfrm>
            <a:prstGeom prst="rect">
              <a:avLst/>
            </a:prstGeom>
            <a:solidFill>
              <a:srgbClr val="de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TUBULO   PROXIM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700360" y="1916280"/>
              <a:ext cx="216000" cy="576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 flipH="1">
            <a:off x="3564000" y="2060640"/>
            <a:ext cx="1224000" cy="720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148360" y="2492280"/>
            <a:ext cx="2592360" cy="101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ILTRAD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eliminación 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0" y="3933360"/>
            <a:ext cx="2411280" cy="1395360"/>
            <a:chOff x="0" y="3933360"/>
            <a:chExt cx="2411280" cy="1395360"/>
          </a:xfrm>
        </p:grpSpPr>
        <p:sp>
          <p:nvSpPr>
            <p:cNvPr id="343" name=""/>
            <p:cNvSpPr/>
            <p:nvPr/>
          </p:nvSpPr>
          <p:spPr>
            <a:xfrm>
              <a:off x="0" y="4869000"/>
              <a:ext cx="241128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LOMERU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1835280" y="3933360"/>
              <a:ext cx="0" cy="8636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924000" y="4292640"/>
            <a:ext cx="2448360" cy="825480"/>
            <a:chOff x="3924000" y="4292640"/>
            <a:chExt cx="2448360" cy="825480"/>
          </a:xfrm>
        </p:grpSpPr>
        <p:sp>
          <p:nvSpPr>
            <p:cNvPr id="346" name=""/>
            <p:cNvSpPr/>
            <p:nvPr/>
          </p:nvSpPr>
          <p:spPr>
            <a:xfrm>
              <a:off x="4427640" y="4292640"/>
              <a:ext cx="1944720" cy="825480"/>
            </a:xfrm>
            <a:prstGeom prst="rect">
              <a:avLst/>
            </a:prstGeom>
            <a:solidFill>
              <a:srgbClr val="008d8a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TUBULO   COLE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924000" y="4941720"/>
              <a:ext cx="576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987640" y="4292640"/>
            <a:ext cx="5940360" cy="254448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ABSORCION (99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E PASIVO PARACELULAR  </a:t>
            </a:r>
            <a:r>
              <a:rPr b="1" lang="es-ES_tradnl" sz="2400" spc="-1" strike="noStrike">
                <a:solidFill>
                  <a:srgbClr val="808080"/>
                </a:solidFill>
                <a:latin typeface="Arial"/>
              </a:rPr>
              <a:t>(+ H</a:t>
            </a:r>
            <a:r>
              <a:rPr b="1" lang="es-ES_tradnl" sz="2400" spc="-1" strike="noStrike" baseline="-25000">
                <a:solidFill>
                  <a:srgbClr val="80808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808080"/>
                </a:solidFill>
                <a:latin typeface="Arial"/>
              </a:rPr>
              <a:t>O):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T.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E ACTIVO SECUND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TRANSPORTE Na+/K+/2Cl-: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A. 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UNCIONES DEL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6000" y="1600200"/>
            <a:ext cx="8748720" cy="45259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porte de GLUCOSA y AMINOA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tenimiento de la PRESION OSMOTICA extrace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misión neuromu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UENTES NATURALES DE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AL DE M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IMENTOS PROCES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IAM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47973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gesta diaria recomendad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&lt; 3 grs.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BSORCION DE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727280" y="2781360"/>
            <a:ext cx="1344600" cy="1871640"/>
            <a:chOff x="1727280" y="2781360"/>
            <a:chExt cx="1344600" cy="1871640"/>
          </a:xfrm>
        </p:grpSpPr>
        <p:sp>
          <p:nvSpPr>
            <p:cNvPr id="60" name=""/>
            <p:cNvSpPr/>
            <p:nvPr/>
          </p:nvSpPr>
          <p:spPr>
            <a:xfrm>
              <a:off x="1727280" y="2781360"/>
              <a:ext cx="1199880" cy="1871640"/>
            </a:xfrm>
            <a:custGeom>
              <a:avLst/>
              <a:gdLst/>
              <a:ahLst/>
              <a:rect l="l" t="t" r="r" b="b"/>
              <a:pathLst>
                <a:path w="756" h="1179">
                  <a:moveTo>
                    <a:pt x="121" y="0"/>
                  </a:moveTo>
                  <a:cubicBezTo>
                    <a:pt x="102" y="106"/>
                    <a:pt x="83" y="212"/>
                    <a:pt x="121" y="272"/>
                  </a:cubicBezTo>
                  <a:cubicBezTo>
                    <a:pt x="159" y="332"/>
                    <a:pt x="280" y="348"/>
                    <a:pt x="348" y="363"/>
                  </a:cubicBezTo>
                  <a:cubicBezTo>
                    <a:pt x="416" y="378"/>
                    <a:pt x="491" y="333"/>
                    <a:pt x="529" y="363"/>
                  </a:cubicBezTo>
                  <a:cubicBezTo>
                    <a:pt x="567" y="393"/>
                    <a:pt x="649" y="506"/>
                    <a:pt x="574" y="544"/>
                  </a:cubicBezTo>
                  <a:cubicBezTo>
                    <a:pt x="499" y="582"/>
                    <a:pt x="150" y="537"/>
                    <a:pt x="75" y="590"/>
                  </a:cubicBezTo>
                  <a:cubicBezTo>
                    <a:pt x="0" y="643"/>
                    <a:pt x="23" y="809"/>
                    <a:pt x="121" y="862"/>
                  </a:cubicBezTo>
                  <a:cubicBezTo>
                    <a:pt x="219" y="915"/>
                    <a:pt x="574" y="854"/>
                    <a:pt x="665" y="907"/>
                  </a:cubicBezTo>
                  <a:cubicBezTo>
                    <a:pt x="756" y="960"/>
                    <a:pt x="665" y="1134"/>
                    <a:pt x="665" y="1179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90800" y="2789280"/>
              <a:ext cx="1081080" cy="1727280"/>
            </a:xfrm>
            <a:custGeom>
              <a:avLst/>
              <a:gdLst/>
              <a:ahLst/>
              <a:rect l="l" t="t" r="r" b="b"/>
              <a:pathLst>
                <a:path w="681" h="1088">
                  <a:moveTo>
                    <a:pt x="136" y="0"/>
                  </a:moveTo>
                  <a:cubicBezTo>
                    <a:pt x="109" y="49"/>
                    <a:pt x="83" y="98"/>
                    <a:pt x="136" y="136"/>
                  </a:cubicBezTo>
                  <a:cubicBezTo>
                    <a:pt x="189" y="174"/>
                    <a:pt x="378" y="151"/>
                    <a:pt x="454" y="227"/>
                  </a:cubicBezTo>
                  <a:cubicBezTo>
                    <a:pt x="530" y="303"/>
                    <a:pt x="620" y="514"/>
                    <a:pt x="590" y="590"/>
                  </a:cubicBezTo>
                  <a:cubicBezTo>
                    <a:pt x="560" y="666"/>
                    <a:pt x="363" y="665"/>
                    <a:pt x="272" y="680"/>
                  </a:cubicBezTo>
                  <a:cubicBezTo>
                    <a:pt x="181" y="695"/>
                    <a:pt x="75" y="665"/>
                    <a:pt x="45" y="680"/>
                  </a:cubicBezTo>
                  <a:cubicBezTo>
                    <a:pt x="15" y="695"/>
                    <a:pt x="0" y="756"/>
                    <a:pt x="91" y="771"/>
                  </a:cubicBezTo>
                  <a:cubicBezTo>
                    <a:pt x="182" y="786"/>
                    <a:pt x="499" y="718"/>
                    <a:pt x="590" y="771"/>
                  </a:cubicBezTo>
                  <a:cubicBezTo>
                    <a:pt x="681" y="824"/>
                    <a:pt x="628" y="1035"/>
                    <a:pt x="635" y="1088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 rot="19789800">
            <a:off x="1511640" y="4436640"/>
            <a:ext cx="2627280" cy="5814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484000" y="2205000"/>
            <a:ext cx="129708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1773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PORTE 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435640" y="2276640"/>
            <a:ext cx="24019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IMINACION DE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IÑ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U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UEMAD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27280" y="2852640"/>
            <a:ext cx="1582920" cy="432000"/>
          </a:xfrm>
          <a:prstGeom prst="rightArrow">
            <a:avLst>
              <a:gd name="adj1" fmla="val 50000"/>
              <a:gd name="adj2" fmla="val 916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292428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ortante en diarreas sev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3716280"/>
            <a:ext cx="1582560" cy="432000"/>
          </a:xfrm>
          <a:prstGeom prst="rightArrow">
            <a:avLst>
              <a:gd name="adj1" fmla="val 50000"/>
              <a:gd name="adj2" fmla="val 91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357336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limas muy cálidos, deportistas, durante el ejercici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80000" y="5300640"/>
            <a:ext cx="1582560" cy="432000"/>
          </a:xfrm>
          <a:prstGeom prst="rightArrow">
            <a:avLst>
              <a:gd name="adj1" fmla="val 50000"/>
              <a:gd name="adj2" fmla="val 91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522936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érdida de líquido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84360" y="1700280"/>
            <a:ext cx="1582920" cy="431640"/>
          </a:xfrm>
          <a:prstGeom prst="rightArrow">
            <a:avLst>
              <a:gd name="adj1" fmla="val 50000"/>
              <a:gd name="adj2" fmla="val 916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84720" y="1700280"/>
            <a:ext cx="45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INCIPAL VIA DE EXCRECION - REGU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GULACION DE LA REABSORCION DE SODIO EN RIÑ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341360"/>
            <a:ext cx="324000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NGIOTENSINA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3068640"/>
            <a:ext cx="32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DOSTER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4724280"/>
            <a:ext cx="324000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ATRIURE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27640" y="1484280"/>
            <a:ext cx="46083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. DE SO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TRANSPORTE N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/2Cl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19640" y="1484280"/>
            <a:ext cx="647640" cy="289080"/>
          </a:xfrm>
          <a:custGeom>
            <a:avLst/>
            <a:gdLst>
              <a:gd name="textAreaLeft" fmla="*/ 113400 w 647640"/>
              <a:gd name="textAreaRight" fmla="*/ 469800 w 64764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1701720"/>
            <a:ext cx="64908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59280" y="263700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2637000"/>
            <a:ext cx="649080" cy="50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0000" y="3357720"/>
            <a:ext cx="33480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NALES DE SO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T. di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35280" y="3573360"/>
            <a:ext cx="936720" cy="360360"/>
          </a:xfrm>
          <a:custGeom>
            <a:avLst/>
            <a:gdLst>
              <a:gd name="textAreaLeft" fmla="*/ 163800 w 936720"/>
              <a:gd name="textAreaRight" fmla="*/ 679320 w 93672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3357720"/>
            <a:ext cx="360360" cy="863280"/>
          </a:xfrm>
          <a:prstGeom prst="upArrow">
            <a:avLst>
              <a:gd name="adj1" fmla="val 50000"/>
              <a:gd name="adj2" fmla="val 598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32360" y="3573360"/>
            <a:ext cx="64944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229360"/>
            <a:ext cx="4319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ILTRACION GLOMER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48000" y="4940280"/>
            <a:ext cx="647640" cy="289080"/>
          </a:xfrm>
          <a:custGeom>
            <a:avLst/>
            <a:gdLst>
              <a:gd name="textAreaLeft" fmla="*/ 113400 w 647640"/>
              <a:gd name="textAreaRight" fmla="*/ 469800 w 64764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08360" y="5157720"/>
            <a:ext cx="64944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5732640"/>
            <a:ext cx="647640" cy="288720"/>
          </a:xfrm>
          <a:custGeom>
            <a:avLst/>
            <a:gdLst>
              <a:gd name="textAreaLeft" fmla="*/ 113400 w 647640"/>
              <a:gd name="textAreaRight" fmla="*/ 469800 w 64764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ef0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08360" y="5950080"/>
            <a:ext cx="649440" cy="503280"/>
          </a:xfrm>
          <a:prstGeom prst="ellipse">
            <a:avLst/>
          </a:prstGeom>
          <a:solidFill>
            <a:srgbClr val="def0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6093000"/>
            <a:ext cx="4319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ABSORCION DE SO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157720"/>
            <a:ext cx="324000" cy="1511280"/>
          </a:xfrm>
          <a:prstGeom prst="downArrow">
            <a:avLst>
              <a:gd name="adj1" fmla="val 50000"/>
              <a:gd name="adj2" fmla="val 11661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484280"/>
            <a:ext cx="324000" cy="2665440"/>
          </a:xfrm>
          <a:prstGeom prst="upArrow">
            <a:avLst>
              <a:gd name="adj1" fmla="val 50000"/>
              <a:gd name="adj2" fmla="val 205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85068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LORU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11640" y="1413000"/>
            <a:ext cx="403236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IQUIDO EXTRA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8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16360" y="3789360"/>
            <a:ext cx="4176720" cy="2128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iq. Intra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lasm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102 mEq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íq.cefalorraquí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cr. gastrointestil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5300640"/>
            <a:ext cx="3889080" cy="132300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ADULTO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75 GRS. TO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UNCIONES DE LOS IONES CLOR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gulación de la presión osmótica del líquido extrace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ducción de CLH  en estóm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5373720"/>
            <a:ext cx="849636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NGEST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INGRESA CONJUNTAMENTE CON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20:07:45Z</dcterms:created>
  <dc:creator>Usuario</dc:creator>
  <dc:description/>
  <dc:language>en-US</dc:language>
  <cp:lastModifiedBy>Usuario</cp:lastModifiedBy>
  <dcterms:modified xsi:type="dcterms:W3CDTF">2011-10-24T14:36:21Z</dcterms:modified>
  <cp:revision>28</cp:revision>
  <dc:subject/>
  <dc:title>BIOELEMENTOS</dc:title>
</cp:coreProperties>
</file>